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5E56-8B74-4A10-934C-E6D4A481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6C6C-CBAE-4194-9292-489F6751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2ACD-BFAA-4AF9-A2ED-EFDD1E2D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FB06-CC2C-4073-8A18-4594F32E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F017-6F63-4340-BE88-477E60C5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6184-40C0-4353-B8D8-0D88B4B3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4E47-2111-428F-990F-75F498DC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5450-EA87-41B3-BD88-B1B211EB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775D-F73B-4EE7-A5E1-9ACBA108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F387-9485-4986-8315-DFB87C25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2CA5-A116-4B6B-B9B1-5EC7C774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6FF0-3A1D-48CB-A8B9-8417FCCB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1B2C-ACCF-409F-A808-2973C62D9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NALYSI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010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86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934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10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162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391160" cy="1117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47920" y="2852640"/>
            <a:ext cx="647676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38880" cy="1409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295280" y="2719440"/>
            <a:ext cx="64771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6933960" cy="1917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371600" y="2852640"/>
            <a:ext cx="632448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9T14:59:59Z</dcterms:modified>
  <cp:revision>94</cp:revision>
  <dc:subject/>
  <dc:title>The Art in the State of the Art</dc:title>
</cp:coreProperties>
</file>